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14C-45DC-483C-A603-300D40F9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44A-5977-48C1-8FA1-085B356B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D1F1-D203-4EC1-9E67-C1406951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9C84-5F60-4A09-9309-F7C58AB4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60EB-BB6E-4638-AD07-17890B42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DEE-10AB-4D7F-852D-45084DA5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9F2-4582-4365-B88B-41392ACA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1E8C-1A65-4E40-A97D-F6E6A6302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D22-652D-4342-9828-DE6809AE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FD3-4F9D-453A-834A-7374738B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1497-583C-40B0-8C25-0EEA435B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47B1-BCF4-4747-87F3-D401B515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E2F9-12B5-47E2-91EB-C24AC1C3E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wsp.edu/education/lwilson/curric/newtaxonomy.htm" TargetMode="External"/><Relationship Id="rId2" Type="http://schemas.openxmlformats.org/officeDocument/2006/relationships/hyperlink" Target="http://projects.coe.uga.edu/epltt/index.php?title=Bloom%27s_Taxonomy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’s Taxonomy vs. Bloom’s Revised Taxono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son, Leslie Owen. Leslie Owen Wilson's Curriculum Pages: Beyond Bloom - A new Version of the Cognitive Taxonomy. Web. 2006.  21 Dec 2009.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uwsp.edu/education/lwilson/curric/newtaxonomy.htm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rojects.coe.uga.edu/epltt/index.php?title=Bloom%27s_Taxonom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’s Taxonomy 195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njamin Bloom, pyscholog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ified the functions of thought or coming to kn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gnitive Domain of human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Affective Domain, Psychomotor Doma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m’s Taxonomy – classification of the cognitive domain of human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 on education – learning and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loom’ Revised Taxonomy 20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adaptation and re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mer student of Bloom’s, Lorin Anderson and former Bloom’s former research partner, David Krathwo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ve year ef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practical and applicable in edu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2"/>
          <p:cNvSpPr/>
          <p:nvPr/>
        </p:nvSpPr>
        <p:spPr>
          <a:xfrm>
            <a:off x="5638680" y="1447920"/>
            <a:ext cx="2743200" cy="4876560"/>
          </a:xfrm>
          <a:prstGeom prst="upArrow">
            <a:avLst>
              <a:gd name="adj1" fmla="val 50000"/>
              <a:gd name="adj2" fmla="val 44442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80880" y="1447920"/>
            <a:ext cx="2743200" cy="4876560"/>
          </a:xfrm>
          <a:prstGeom prst="upArrow">
            <a:avLst>
              <a:gd name="adj1" fmla="val 50000"/>
              <a:gd name="adj2" fmla="val 44442"/>
            </a:avLst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iginal Terms            New Te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396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Synthe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791320" y="1752480"/>
            <a:ext cx="358128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pp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memb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7"/>
          <p:cNvSpPr/>
          <p:nvPr/>
        </p:nvSpPr>
        <p:spPr>
          <a:xfrm rot="1007400">
            <a:off x="3580920" y="2133720"/>
            <a:ext cx="1752840" cy="457200"/>
          </a:xfrm>
          <a:prstGeom prst="rightArrow">
            <a:avLst>
              <a:gd name="adj1" fmla="val 50000"/>
              <a:gd name="adj2" fmla="val 95846"/>
            </a:avLst>
          </a:prstGeom>
          <a:solidFill>
            <a:srgbClr val="007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8"/>
          <p:cNvSpPr/>
          <p:nvPr/>
        </p:nvSpPr>
        <p:spPr>
          <a:xfrm rot="19867800">
            <a:off x="3581280" y="2285640"/>
            <a:ext cx="1752840" cy="457200"/>
          </a:xfrm>
          <a:prstGeom prst="rightArrow">
            <a:avLst>
              <a:gd name="adj1" fmla="val 50000"/>
              <a:gd name="adj2" fmla="val 95846"/>
            </a:avLst>
          </a:prstGeom>
          <a:solidFill>
            <a:srgbClr val="703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9"/>
          <p:cNvSpPr/>
          <p:nvPr/>
        </p:nvSpPr>
        <p:spPr>
          <a:xfrm>
            <a:off x="3886200" y="34290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>
            <a:off x="3886200" y="41911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3886200" y="50292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ed7c0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2"/>
          <p:cNvSpPr/>
          <p:nvPr/>
        </p:nvSpPr>
        <p:spPr>
          <a:xfrm>
            <a:off x="3886200" y="586728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304920" y="647712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(Based on Pohl, 2000, </a:t>
            </a:r>
            <a:r>
              <a:rPr b="1" i="1" lang="en-US" sz="1800" spc="-1" strike="noStrike">
                <a:solidFill>
                  <a:srgbClr val="c0504d"/>
                </a:solidFill>
                <a:latin typeface="Calibri"/>
              </a:rPr>
              <a:t>Learning to Think, Thinking to Learn, p. 8</a:t>
            </a:r>
            <a:r>
              <a:rPr b="0" lang="en-US" sz="1800" spc="-1" strike="noStrike">
                <a:solidFill>
                  <a:srgbClr val="c0504d"/>
                </a:solidFill>
                <a:latin typeface="Calibri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er Levels Def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MEMBERING – lowest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trieving, recognizing, and recalling knowledge from long-term memo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eaning is not necessarily pres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NDERSTANDING – second leve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nstructing meaning from oral, written, and graphic messages through interpreting, exemplifying, classifying, summarizing, inferring, comparing and explai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PPLYING – third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indefinite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wer Levels Defin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ING – lowest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– second lev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YING – thir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rying out or using learned material through executing or implementing, often in a new, but concret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mber each level incorporates the levels below – in order to correctly “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ppl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”, one must both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rememb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understa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he appropriate cont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indefinite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indefinite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er Level - Analyz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zing – breaking material into constituent parts, determining how parts relate to one another, an overall structure or purpose and/or similar situations or scenario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es differentiating, attributing, organizing, and/or distinguishing of patter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er Level - Evalu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ng – Making judgments based upon criteria and standards through checking and critiquing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sessing the value of evidence, theories or material presen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er Level - Crea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ing – Putting elements together to form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coher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unctiona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hole; reorganizing elements into a new pattern or structure through generating, planning, or produ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hasis on a quality or highly functional “cre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ed the highest or most complex level, incorporating elements of all levels below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indefinite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15:23:37Z</dcterms:created>
  <dc:creator>bguenther</dc:creator>
  <dc:description/>
  <dc:language>en-US</dc:language>
  <cp:lastModifiedBy>bguenther</cp:lastModifiedBy>
  <dcterms:modified xsi:type="dcterms:W3CDTF">2010-02-08T19:31:00Z</dcterms:modified>
  <cp:revision>50</cp:revision>
  <dc:subject/>
  <dc:title>Slide 1</dc:title>
</cp:coreProperties>
</file>